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545-823D-45DE-8B4D-B6040C65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A32-E77B-4D51-B316-A083458E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8B4-FC91-4929-BA3A-3BC1A495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255-90D9-4FD2-A3CC-3E25BA67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A77-FFEF-4366-95B2-FC76A14C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BBA-7406-429D-8FEC-2E98E2B4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0B8-0F81-4E8C-9641-32BCF218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F16-C29F-4CCA-8C5B-44B11A2F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CBE-3E41-4D5B-AAD7-D84A44B6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C54-B0C1-4B67-8D7D-ABCE8F25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113-F246-4E87-ABDF-AD342CDF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BB1-71CA-4199-A30B-8FBBA131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05F8-5655-4734-9127-EEE34F131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omninos Zer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to a working class Greek family in Victoria in 19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poetry: microbiology, outreach youth worker, campaigning for the rights of non-English speaking Australians, café owner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performance poetry and creative writing facilitator for 10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ed a wide range of venues including pubs, schools and prisons and made appearances on TV and rad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rote a number of anthologies of poetry including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Komninos by the Kup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e writes a combination of social commentary and autobiograp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reated several hypertext poems including “Underground” and “”Cyberpoe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e is exploring this new medium of poetry and teaches Cybermedia at Griffith University, Queens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3:49:48Z</dcterms:created>
  <dc:creator>Jen</dc:creator>
  <dc:description/>
  <dc:language>en-US</dc:language>
  <cp:lastModifiedBy>Jen</cp:lastModifiedBy>
  <dcterms:modified xsi:type="dcterms:W3CDTF">2010-03-18T07:25:27Z</dcterms:modified>
  <cp:revision>2</cp:revision>
  <dc:subject/>
  <dc:title>Komninos Zervos</dc:title>
</cp:coreProperties>
</file>